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8799D-004B-400C-BDE3-1A5067984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E224B-67F4-44C1-AAA9-050EE3A28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1C4D8-FEA6-48C8-B050-FBD7BD2E4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CD84C-87BF-4CF8-859F-D89D53EE0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8AF32-1929-4303-B362-2F8AFE4E9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A1E36-FB51-404C-A786-92E891C6C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E53E3-0E44-4BE2-85CE-065C41787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76322-B3D9-49B6-871C-626ED25B9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EF7E7-30A8-456E-9300-05A8BBF73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8662B-917E-4D9E-998D-75DEAE22D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B0CE1-2246-4725-8335-075653AF6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B3F50-3DA1-4BBA-AE75-35C8C9E09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75B0-5B6F-4A30-AFD2-278F31FA64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clear Energ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143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arc Di Cola</a:t>
            </a:r>
            <a:br>
              <a:rPr sz="3200"/>
            </a:br>
            <a:r>
              <a:rPr b="0" lang="en-US" sz="3200" spc="-1" strike="noStrike">
                <a:solidFill>
                  <a:srgbClr val="000000"/>
                </a:solidFill>
                <a:latin typeface="Arial"/>
              </a:rPr>
              <a:t>and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t Blakeslee</a:t>
            </a:r>
            <a:endParaRPr b="0" lang="en-US" sz="3200" spc="-1" strike="noStrike">
              <a:solidFill>
                <a:srgbClr val="000000"/>
              </a:solidFill>
              <a:latin typeface="Arial"/>
            </a:endParaRPr>
          </a:p>
        </p:txBody>
      </p:sp>
      <p:pic>
        <p:nvPicPr>
          <p:cNvPr id="43" name="" descr=""/>
          <p:cNvPicPr/>
          <p:nvPr/>
        </p:nvPicPr>
        <p:blipFill>
          <a:blip r:embed="rId1"/>
          <a:stretch/>
        </p:blipFill>
        <p:spPr>
          <a:xfrm>
            <a:off x="0" y="3048120"/>
            <a:ext cx="914400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energy is created by the fission of ato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atom splits it produces free neutrons, which cause a chain reaction in the reactor, creating massive heat energ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ailed Descript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nuclear fission the atoms, typically uranium, are split which starts a chain reaction that splits other atoms in the core of the pl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ergy created during the reaction is used to  heat water, creating steam, which spins a turbine, creating pow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issions from plants do not contribute to global war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provides 11%-18% of the world’s electric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ergy released by splitting one atom of uranium is 10 million times greater than burning an atom of co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anium is easier to obtain than fossil fu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at of nuclear accidents and radiation leak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er to obtain nuclear weap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large amounts of capital to st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waste is difficult to dispose of properly.</a:t>
            </a:r>
            <a:endParaRPr b="0" lang="en-US" sz="3200" spc="-1" strike="noStrike">
              <a:solidFill>
                <a:srgbClr val="000000"/>
              </a:solidFill>
              <a:latin typeface="Arial"/>
            </a:endParaRPr>
          </a:p>
        </p:txBody>
      </p:sp>
      <p:pic>
        <p:nvPicPr>
          <p:cNvPr id="54" name="" descr=""/>
          <p:cNvPicPr/>
          <p:nvPr/>
        </p:nvPicPr>
        <p:blipFill>
          <a:blip r:embed="rId1"/>
          <a:stretch/>
        </p:blipFill>
        <p:spPr>
          <a:xfrm>
            <a:off x="4495680" y="4343400"/>
            <a:ext cx="270036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ernobyl Acciden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rnobyl is located in the Ukraine, formally the Soviet Un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pril 26, 1986 had the worst nuclear power plant accident in history when steam pressure began to build up in the reac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sure was caused by the shut down of the turbine, which supplied power to the water pum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e graphite control rods had been removed, the reactor began to split atoms out of control, and the absence of coolant and the control rods allowed for the buildup of ste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operators inserted the control rods into the core to slow the reaction, it went solid, blowing the 2,000 ton lid off the co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cident resulted in 56 direct deaths, and 4,000 deaths from radiation poisoning, as well as widespread birth defects and other problems associated with exposure to radi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701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ucca Mountai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ucca Mountain is located in Nevada, and is used as storage for nuclear wast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ucca Mountain is set to open in 2017.</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ucca Mountain is not open because the land is not licensed for nuclear wasted dumping, and lawmakers of Nevada do not want nuclear waste dumped in their st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ion is set to start in 2011.</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3:30:34Z</dcterms:created>
  <dc:creator>sasd</dc:creator>
  <dc:description/>
  <dc:language>en-US</dc:language>
  <cp:lastModifiedBy>sasd</cp:lastModifiedBy>
  <dcterms:modified xsi:type="dcterms:W3CDTF">2009-04-21T13:37:46Z</dcterms:modified>
  <cp:revision>11</cp:revision>
  <dc:subject/>
  <dc:title>Nuclear Energy</dc:title>
</cp:coreProperties>
</file>